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6.jpeg" ContentType="image/jpeg"/>
  <Override PartName="/ppt/media/image17.wmf" ContentType="image/x-wmf"/>
  <Override PartName="/ppt/media/image16.jpeg" ContentType="image/jpeg"/>
  <Override PartName="/ppt/media/image35.wmf" ContentType="image/x-wmf"/>
  <Override PartName="/ppt/media/image39.gif" ContentType="image/gif"/>
  <Override PartName="/ppt/media/image15.png" ContentType="image/png"/>
  <Override PartName="/ppt/media/image34.wmf" ContentType="image/x-wmf"/>
  <Override PartName="/ppt/media/image9.wmf" ContentType="image/x-wmf"/>
  <Override PartName="/ppt/media/image10.jpeg" ContentType="image/jpeg"/>
  <Override PartName="/ppt/media/image42.jpeg" ContentType="image/jpeg"/>
  <Override PartName="/ppt/media/image2.gif" ContentType="image/gif"/>
  <Override PartName="/ppt/media/image8.jpeg" ContentType="image/jpeg"/>
  <Override PartName="/ppt/media/image38.png" ContentType="image/png"/>
  <Override PartName="/ppt/media/image41.wmf" ContentType="image/x-wmf"/>
  <Override PartName="/ppt/media/image30.wmf" ContentType="image/x-wmf"/>
  <Override PartName="/ppt/media/image32.png" ContentType="image/png"/>
  <Override PartName="/ppt/media/image1.jpeg" ContentType="image/jpeg"/>
  <Override PartName="/ppt/media/image40.wmf" ContentType="image/x-wmf"/>
  <Override PartName="/ppt/media/image36.wmf" ContentType="image/x-wmf"/>
  <Override PartName="/ppt/media/image44.jpeg" ContentType="image/jpeg"/>
  <Override PartName="/ppt/media/image45.wmf" ContentType="image/x-wmf"/>
  <Override PartName="/ppt/media/image4.jpeg" ContentType="image/jpeg"/>
  <Override PartName="/ppt/media/image5.png" ContentType="image/png"/>
  <Override PartName="/ppt/media/image43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14.gif" ContentType="image/gif"/>
  <Override PartName="/ppt/media/image37.wmf" ContentType="image/x-wmf"/>
  <Override PartName="/ppt/media/image7.wmf" ContentType="image/x-wmf"/>
  <Override PartName="/ppt/media/image13.jpeg" ContentType="image/jpeg"/>
  <Override PartName="/ppt/media/image12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7028-3114-4A8E-A744-FE9D91448D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0C84-7EC1-446F-B311-51C648FA446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DCE-7B1D-4CA6-A2DA-04F8BE92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BFB-7570-4448-B73E-55D0D0F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E94-B86B-479D-87A5-52159A12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DF0-BB6D-4F38-AB5C-BC841E3C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BBF2-676A-4033-9BC1-4BFBD9EA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B723-3DED-4FB2-9015-47EE554C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DBD-62CA-4A2E-B8E9-AE101B88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C57E-8124-4641-8EC7-97256561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1BA1-9B49-443A-90F8-EF2E462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71A6-3ECB-4466-9DA7-DC077FFA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3525-A9AA-4B07-847F-B08E0D1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218-9DEC-445B-B1FE-2DCA58DC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36CC-04FB-48D9-85BF-ED1E598A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FD84-3043-4829-B9E3-CFD1C03C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860F-6684-4AD3-9D5E-3846A22A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0251-F404-4F44-9FE9-A16F0F67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D5A3-5417-49FA-8B6D-C08D5141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E4593-2FE3-4F31-BD41-3A9825F3F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9C4DF8-BF89-4E9F-9092-96837090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AAE853-B126-4889-A2C9-09429A43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BB0D4-9DF7-442F-B624-993EC218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1CE69-343C-48BC-B982-513D2C6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B6B-4864-4712-A533-0FE9A79A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32E54-17B4-4694-BD14-8EA6DAA6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C2441D-80B9-40E5-B838-F72E507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99FAC-6AAF-44EE-9206-9E7748CD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4F74B-5F5F-4BE4-A99C-23B26DE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5CACC-562E-4941-8555-6F4B7189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43D799-19E5-434E-9B75-D262A8AF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45D72-7DF1-463D-920A-77D1E1D5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F1FDB-E51F-4A5C-AF1A-69DDC567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A7D7-06D2-4E81-982F-A92E5C11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3DE9-F0EB-4541-A30F-87F4151B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B08-F818-404A-A0C1-61FDCA98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1CF4-80C2-4F3A-8A37-6955010E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47DE-5B3C-457F-8878-DAEF194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537DA-894C-45BC-8259-E7C4E617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87099-4012-43FD-B2E4-ED66117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BA870-52A5-4F14-9EE7-5A61FB73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B64BF-9473-41AE-966A-C865276A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9390F-C86B-4160-A497-285D89DD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4F498-C500-4CD7-A9D1-20EEEBEB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AAC7-3D16-46DE-9ECD-F0607014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A68C64-3073-4D24-9BF9-8DD4BC19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7FB-3048-4294-88C2-0A9AE6B5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EF8BD-6B43-4D14-AF69-8EB2C206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C5060-839E-442E-AD0A-5B20227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7292F-8894-439A-9CD0-190418D8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56E183-B48E-40B1-BCBC-579B9F02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D28A5-E980-42F2-A6C0-003FB65F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B4C24-4451-4F61-8AAA-20737BF8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BA87A-6DFB-4C0B-B556-45063ED0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1AF6CA-D774-4519-8363-5A33E09E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AFA67-050F-424B-9EEE-FEE84A71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2CC3CB-DBA2-4CC8-ABDB-E75A62C7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ED7C-F71F-4A4D-81B0-03C55DC4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40EFE-24AB-4872-BFB9-F92168FE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543FE9-D9D6-405E-B472-8A2F4702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A1EEAF-214C-40DF-94E9-48D71B72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A8697C-36C2-4CE5-BB8D-B227D7E0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95253-E600-4293-A2D8-7E651328A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4BA30-A59E-4FA2-9050-B668AF11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19BF0B-8F2F-447A-AC80-BBDB8874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903C6-F6BB-408A-B810-F68E588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55C576-1E09-4994-B5D6-5A8105C0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FAAB4-88A0-466A-B37E-6F4D027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F5A-B605-488E-A069-FA86DB0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F3122-3FB6-458B-A79B-D8795A40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15304-F5D4-4202-82FE-47B29251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E4F55-FA92-48C2-8024-9315B69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801CA-C090-458A-869F-BF9146F5B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43620-2711-44A2-B0A6-21C93B8B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E993CE-86CD-4BAB-958B-27401D42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E95EF1-D764-48AA-912B-08485A5F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5B4C5-30C2-4428-9BAC-C29A8440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7E577B-8EDC-4E10-A235-00F12877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915BCF-9373-431E-9F1E-17BB484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E9F-F2C7-4315-BA42-CD2BCFB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41E9D-54BD-4A67-A574-AEAC3F5E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53F4CF-18D0-429E-989C-92FF534D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C41F1B-D7A2-4DDC-98D3-23D83AF8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22587-C668-4F50-8447-BEAFFA03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2689C-CB56-43B4-979E-0807FA74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B99-6134-4F07-BAE3-76977BD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DE3F-E410-4D02-A71F-A2BE2E78685D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BF86-22D7-47F0-B8DF-1C1836C98ED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9AD4-A7AA-4ADA-A868-F9D75C99DB38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6E3-BDCA-4FEA-B6AB-2B1B38B58E3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504B-2F93-4254-94CE-5C8CE842397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3584-FF59-47B8-BF55-48AB1C2B6F7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7304-FCAD-45ED-82DA-59B8C279DA1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7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ذكاء الاجتماعي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505320" y="5105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Verdana"/>
                <a:cs typeface="AL-Mohanad Bold"/>
              </a:rPr>
              <a:t>للمدرب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L-Mohanad Bold"/>
              </a:rPr>
              <a:t>        د. خالد بن صالح المني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286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فن  التعامل  وقوة التأثير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2895480" y="3276720"/>
            <a:ext cx="3657600" cy="1632240"/>
            <a:chOff x="2895480" y="3276720"/>
            <a:chExt cx="3657600" cy="1632240"/>
          </a:xfrm>
        </p:grpSpPr>
        <p:sp>
          <p:nvSpPr>
            <p:cNvPr id="362" name="WordArt 4"/>
            <p:cNvSpPr txBox="1"/>
            <p:nvPr/>
          </p:nvSpPr>
          <p:spPr>
            <a:xfrm>
              <a:off x="2895480" y="3276720"/>
              <a:ext cx="36576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7598d9"/>
                    </a:solidFill>
                    <a:miter/>
                  </a:ln>
                  <a:solidFill>
                    <a:srgbClr val="bfbfb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K Elham"/>
                </a:rPr>
                <a:t> </a:t>
              </a:r>
              <a:endPara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bfbfb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 Elham"/>
                <a:ea typeface="K Elham"/>
              </a:endParaRPr>
            </a:p>
          </p:txBody>
        </p:sp>
        <p:pic>
          <p:nvPicPr>
            <p:cNvPr id="363" name="Picture 4" descr="C:\Documents and Settings\asus\My Documents\عرض\صور4\backbghearts.gif"/>
            <p:cNvPicPr/>
            <p:nvPr/>
          </p:nvPicPr>
          <p:blipFill>
            <a:blip r:embed="rId2"/>
            <a:stretch/>
          </p:blipFill>
          <p:spPr>
            <a:xfrm>
              <a:off x="2895480" y="3276720"/>
              <a:ext cx="36576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9"/>
            <p:cNvSpPr/>
            <p:nvPr/>
          </p:nvSpPr>
          <p:spPr>
            <a:xfrm>
              <a:off x="3047760" y="3352680"/>
              <a:ext cx="327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800" spc="-1" strike="noStrike">
                  <a:solidFill>
                    <a:srgbClr val="a6a6a6"/>
                  </a:solidFill>
                  <a:latin typeface="Verdana"/>
                  <a:cs typeface="AL-Mohanad Bold"/>
                </a:rPr>
                <a:t>ســــحـــر الــحـــب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 rot="19777200">
            <a:off x="375840" y="5405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كبر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2438280" y="17524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ffff9b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K Elham"/>
              </a:rPr>
              <a:t>اشراقات</a:t>
            </a:r>
            <a:endParaRPr b="1" lang="en-US" sz="7200" spc="1" strike="noStrike">
              <a:ln w="12600">
                <a:solidFill>
                  <a:srgbClr val="515d73"/>
                </a:solidFill>
                <a:miter/>
              </a:ln>
              <a:solidFill>
                <a:srgbClr val="ffff9b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K Elham"/>
              <a:ea typeface="K Elham"/>
            </a:endParaRPr>
          </a:p>
        </p:txBody>
      </p:sp>
      <p:sp>
        <p:nvSpPr>
          <p:cNvPr id="394" name="Rectangle 3"/>
          <p:cNvSpPr/>
          <p:nvPr/>
        </p:nvSpPr>
        <p:spPr>
          <a:xfrm rot="19908000">
            <a:off x="2752200" y="554364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ح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 rot="20265600">
            <a:off x="4541400" y="554796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فكر بأهميته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" descr="C:\Documents and Settings\asus\My Documents\عرض\صور4\80.gif"/>
          <p:cNvPicPr/>
          <p:nvPr/>
        </p:nvPicPr>
        <p:blipFill>
          <a:blip r:embed="rId2"/>
          <a:stretch/>
        </p:blipFill>
        <p:spPr>
          <a:xfrm>
            <a:off x="6095880" y="5335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Diagram 5" descr=""/>
          <p:cNvPicPr/>
          <p:nvPr/>
        </p:nvPicPr>
        <p:blipFill>
          <a:blip r:embed="rId1"/>
          <a:stretch/>
        </p:blipFill>
        <p:spPr>
          <a:xfrm>
            <a:off x="0" y="-907920"/>
            <a:ext cx="8259840" cy="861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asus\My Documents\عرض\صور1\48.JPG"/>
          <p:cNvPicPr/>
          <p:nvPr/>
        </p:nvPicPr>
        <p:blipFill>
          <a:blip r:embed="rId1"/>
          <a:stretch/>
        </p:blipFill>
        <p:spPr>
          <a:xfrm>
            <a:off x="-228600" y="228600"/>
            <a:ext cx="27082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124080" y="1069920"/>
            <a:ext cx="510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قول الناس الذين  يملكون تقمص عاطفي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فهم ماتشعر ب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حزين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إن ضربات قلبي تتسار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 سعيد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فعلون 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بكو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تغير  تعابيره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ساعدون الآخري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شعر بالفرح  إذا  فازو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4" descr="C:\Documents and Settings\asus\My Documents\عرض\صور4\DSGNC039.WMF"/>
          <p:cNvPicPr/>
          <p:nvPr/>
        </p:nvPicPr>
        <p:blipFill>
          <a:blip r:embed="rId2"/>
          <a:stretch/>
        </p:blipFill>
        <p:spPr>
          <a:xfrm>
            <a:off x="1295280" y="3048120"/>
            <a:ext cx="2895840" cy="2290680"/>
          </a:xfrm>
          <a:prstGeom prst="rect">
            <a:avLst/>
          </a:prstGeom>
          <a:ln w="0">
            <a:noFill/>
          </a:ln>
        </p:spPr>
      </p:pic>
      <p:sp>
        <p:nvSpPr>
          <p:cNvPr id="402" name="WordArt 6"/>
          <p:cNvSpPr txBox="1"/>
          <p:nvPr/>
        </p:nvSpPr>
        <p:spPr>
          <a:xfrm>
            <a:off x="609480" y="609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أمل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3886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entury Schoolbook"/>
                <a:cs typeface="K Elham"/>
              </a:rPr>
              <a:t>كُن  صيادا  ماهرا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05520" y="2361960"/>
            <a:ext cx="30477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ماذا  يريد  السمك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حصان  والخادمة الذكي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كار نجي وصاحب الفند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قاعدة  خطيرة 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523880" y="16761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نتصر في كل  معرك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هل  تُريد  أن يحتفى بك  أينما  ذهبت؟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819520" y="32767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صائية  شركة الهات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رئيس وطائر زوج خادمت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ندوب التسويق  الذكي  والطواب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شيك العجيب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ستراتيجية روزفل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5" descr="C:\Documents and Settings\asus\My Documents\My Pictures\Microsoft Clip Organizer\j0402446.jpg"/>
          <p:cNvPicPr/>
          <p:nvPr/>
        </p:nvPicPr>
        <p:blipFill>
          <a:blip r:embed="rId1"/>
          <a:stretch/>
        </p:blipFill>
        <p:spPr>
          <a:xfrm>
            <a:off x="987480" y="530280"/>
            <a:ext cx="3286080" cy="2603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E:\CLIPART\OBJECTS\COMMU\TELE017.WMF"/>
          <p:cNvPicPr/>
          <p:nvPr/>
        </p:nvPicPr>
        <p:blipFill>
          <a:blip r:embed="rId2"/>
          <a:stretch/>
        </p:blipFill>
        <p:spPr>
          <a:xfrm>
            <a:off x="2362320" y="3733920"/>
            <a:ext cx="946080" cy="76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:\CLIPART\ANIMALS\ANIMBIRD\BIRD032.WMF"/>
          <p:cNvPicPr/>
          <p:nvPr/>
        </p:nvPicPr>
        <p:blipFill>
          <a:blip r:embed="rId3"/>
          <a:stretch/>
        </p:blipFill>
        <p:spPr>
          <a:xfrm>
            <a:off x="533520" y="4641840"/>
            <a:ext cx="1218960" cy="80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Documents and Settings\asus\My Documents\My Pictures\stamp.gif"/>
          <p:cNvPicPr/>
          <p:nvPr/>
        </p:nvPicPr>
        <p:blipFill>
          <a:blip r:embed="rId4"/>
          <a:stretch/>
        </p:blipFill>
        <p:spPr>
          <a:xfrm>
            <a:off x="2286000" y="5181480"/>
            <a:ext cx="963720" cy="8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ستخدم رصيد المليون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198072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ماذا 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ذا  تفعل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D:\only me\wafa\photo\smilie.gif"/>
          <p:cNvPicPr/>
          <p:nvPr/>
        </p:nvPicPr>
        <p:blipFill>
          <a:blip r:embed="rId1"/>
          <a:stretch/>
        </p:blipFill>
        <p:spPr>
          <a:xfrm>
            <a:off x="762120" y="4267080"/>
            <a:ext cx="1904760" cy="1895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D:\only me\wafa\photo\smilie.gif"/>
          <p:cNvPicPr/>
          <p:nvPr/>
        </p:nvPicPr>
        <p:blipFill>
          <a:blip r:embed="rId2"/>
          <a:stretch/>
        </p:blipFill>
        <p:spPr>
          <a:xfrm>
            <a:off x="2057400" y="1601640"/>
            <a:ext cx="915840" cy="911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D:\only me\wafa\photo\smilie.gif"/>
          <p:cNvPicPr/>
          <p:nvPr/>
        </p:nvPicPr>
        <p:blipFill>
          <a:blip r:embed="rId3"/>
          <a:stretch/>
        </p:blipFill>
        <p:spPr>
          <a:xfrm>
            <a:off x="5410080" y="4648320"/>
            <a:ext cx="1219320" cy="1212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D:\only me\wafa\photo\smilie.gif"/>
          <p:cNvPicPr/>
          <p:nvPr/>
        </p:nvPicPr>
        <p:blipFill>
          <a:blip r:embed="rId4"/>
          <a:stretch/>
        </p:blipFill>
        <p:spPr>
          <a:xfrm>
            <a:off x="7311960" y="6094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لفك  درهما  ولا دينارا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62520" y="15998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فرغت يا أبا الول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 تكون أفضل  متحدثا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ارنجي وعالم النب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بوزان وفائدة  المرض</a:t>
            </a:r>
            <a:r>
              <a:rPr b="0" lang="ar-SA" sz="3200" spc="-1" strike="noStrike">
                <a:solidFill>
                  <a:srgbClr val="ffffff"/>
                </a:solidFill>
                <a:latin typeface="Century Schoolbook"/>
                <a:ea typeface="AL-Mohanad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8120" y="837720"/>
            <a:ext cx="2590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اهي  أهمية الاستماع؟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34290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424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6" name="Picture 7" descr="C:\Documents and Settings\asus\My Documents\My Pictures\ear.jpg"/>
          <p:cNvPicPr/>
          <p:nvPr/>
        </p:nvPicPr>
        <p:blipFill>
          <a:blip r:embed="rId2"/>
          <a:stretch/>
        </p:blipFill>
        <p:spPr>
          <a:xfrm>
            <a:off x="6095880" y="390600"/>
            <a:ext cx="21621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600200" y="471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cs typeface="K Elham"/>
              </a:rPr>
              <a:t>هناك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5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 نقاط اساسية </a:t>
            </a: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38080" y="1676520"/>
            <a:ext cx="6934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نظر  الى محدثك بانتبا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ما دمت تستمع له فيجب أن تنظر اليه ايضا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قترب من المتحدث واستمع بإصغا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وكأنك لا تريد أن تفوتك أي كلم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طرح الاسئل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اجعل متحدثك متأكدا بأنك تستمع ل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لا تقاطع المتحدث ولا تخرج عن الموضوع حين تسأ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ستعمل كلمات المتحدث حين تحاوره وتجنب استعمال (أنا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أنك اذا استعملت (أنا) تغير تركيز الحديث من المتحدث ال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مع وهذا يجعله المستمع ويجعلك المتحدث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C:\Documents and Settings\asus\My Documents\My Pictures\Microsoft Clip Organizer\j0293480.wmf"/>
          <p:cNvPicPr/>
          <p:nvPr/>
        </p:nvPicPr>
        <p:blipFill>
          <a:blip r:embed="rId1"/>
          <a:stretch/>
        </p:blipFill>
        <p:spPr>
          <a:xfrm>
            <a:off x="762120" y="685800"/>
            <a:ext cx="209844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البداية؟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21333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 يقول  أنه لن  يتغير  فلا يضيع  وقته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أتى ليتعرف أو يقارن أو يتسلى فلن يستفيد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هارة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نتقن فن الاستماع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4" descr="C:\Documents and Settings\asus\My Documents\My Pictures\listen02.gif"/>
          <p:cNvPicPr/>
          <p:nvPr/>
        </p:nvPicPr>
        <p:blipFill>
          <a:blip r:embed="rId1"/>
          <a:stretch/>
        </p:blipFill>
        <p:spPr>
          <a:xfrm>
            <a:off x="762120" y="2438280"/>
            <a:ext cx="30384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C:\Documents and Settings\asus\My Documents\My Pictures\Microsoft Clip Organizer\j0311820.wmf"/>
          <p:cNvPicPr/>
          <p:nvPr/>
        </p:nvPicPr>
        <p:blipFill>
          <a:blip r:embed="rId1"/>
          <a:stretch/>
        </p:blipFill>
        <p:spPr>
          <a:xfrm>
            <a:off x="2514600" y="2463840"/>
            <a:ext cx="3881520" cy="3403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أنواع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98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7315200" y="3039840"/>
            <a:ext cx="15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ٌ في غاية الغرابة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80880" y="751680"/>
            <a:ext cx="58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من عجائبه  أن حساباته  غير  قابلة  للإلغاء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4"/>
          <p:cNvSpPr/>
          <p:nvPr/>
        </p:nvSpPr>
        <p:spPr>
          <a:xfrm rot="21236400">
            <a:off x="5943600" y="2430000"/>
            <a:ext cx="12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ليس  كبقية البنوك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 rot="21304200">
            <a:off x="3966840" y="2792880"/>
            <a:ext cx="13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  تفتحُ فيه  ماشئ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من الحسابات 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905120" y="1956240"/>
            <a:ext cx="158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الحساب  لايستغرق فتحه سوى (ثواني)!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2771640"/>
            <a:ext cx="1523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إيداع   والسحب فيه  بلا أوراق أو  أختام  !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Rectangle 8" descr=""/>
          <p:cNvPicPr/>
          <p:nvPr/>
        </p:nvPicPr>
        <p:blipFill>
          <a:blip r:embed="rId1"/>
          <a:stretch/>
        </p:blipFill>
        <p:spPr>
          <a:xfrm>
            <a:off x="5102280" y="49320"/>
            <a:ext cx="363384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762120" y="16002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AL-Mohanad Bold"/>
              </a:rPr>
              <a:t>هل عرفتم  هذا  البنك العجيب!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بنك المشاع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419360" y="16761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قدار الثقة التي نبنيها وندخرها في علاقة ما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ادخار: الاحترام واللطف والنزاهة والالتزام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حب: عدم الاحترام، العجرفة وتأليه الذات، الخيانة وعدم الالتزام، الحكم الظالم أو التهديد، الاعتراف بأخطاء الآخرين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4" descr="C:\Documents and Settings\asus\My Documents\عرض\صور4\GOVT137.WMF"/>
          <p:cNvPicPr/>
          <p:nvPr/>
        </p:nvPicPr>
        <p:blipFill>
          <a:blip r:embed="rId2"/>
          <a:stretch/>
        </p:blipFill>
        <p:spPr>
          <a:xfrm>
            <a:off x="685800" y="1905120"/>
            <a:ext cx="3228840" cy="355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ختر  شخص  عزيز  وتأمل في ثلاثة سحوبات وخصومات متوقع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خصوم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3124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يداع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304920" y="53352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228600" y="763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K Elham"/>
              </a:rPr>
              <a:t>تمرين فرد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Century Schoolbook"/>
                <a:cs typeface="K Elham"/>
              </a:rPr>
              <a:t>الفرصة  الوحيدة (الانطباع الأول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77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بداية  من ذات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بتس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فاءل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شخ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دم نفس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نظر لعيني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قرأ في الأحداث...وأحفظ  شيئا من الطرف والنواد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6" descr="E:\CLIPART\PEOPLE\MENPROF\MENO076.WMF"/>
          <p:cNvPicPr/>
          <p:nvPr/>
        </p:nvPicPr>
        <p:blipFill>
          <a:blip r:embed="rId1"/>
          <a:stretch/>
        </p:blipFill>
        <p:spPr>
          <a:xfrm>
            <a:off x="1828800" y="2286000"/>
            <a:ext cx="2286000" cy="25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098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حدث عن نفسك كثير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دعي المعرف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فظ ماء وجه محدث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5" name="Picture 6" descr="C:\Documents and Settings\asus\My Documents\عرض\صور4\GOVT143.WMF"/>
          <p:cNvPicPr/>
          <p:nvPr/>
        </p:nvPicPr>
        <p:blipFill>
          <a:blip r:embed="rId1"/>
          <a:stretch/>
        </p:blipFill>
        <p:spPr>
          <a:xfrm>
            <a:off x="380880" y="685800"/>
            <a:ext cx="4724640" cy="5562720"/>
          </a:xfrm>
          <a:prstGeom prst="rect">
            <a:avLst/>
          </a:prstGeom>
          <a:ln w="0">
            <a:noFill/>
          </a:ln>
        </p:spPr>
      </p:pic>
      <p:pic>
        <p:nvPicPr>
          <p:cNvPr id="456" name="WordArt 4" descr=""/>
          <p:cNvPicPr/>
          <p:nvPr/>
        </p:nvPicPr>
        <p:blipFill>
          <a:blip r:embed="rId2"/>
          <a:stretch/>
        </p:blipFill>
        <p:spPr>
          <a:xfrm>
            <a:off x="1749600" y="3651120"/>
            <a:ext cx="1670040" cy="101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ن فضوليا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ضع لك محيطا حيويا  ولاتتجاوز محيط الآخر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حبيب  اللهم  صلي وسلم عليه مع  أبي تراب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6" descr="C:\Documents and Settings\asus\My Documents\عرض\صور4\DSGNC036.WMF"/>
          <p:cNvPicPr/>
          <p:nvPr/>
        </p:nvPicPr>
        <p:blipFill>
          <a:blip r:embed="rId1"/>
          <a:stretch/>
        </p:blipFill>
        <p:spPr>
          <a:xfrm>
            <a:off x="3276720" y="3809880"/>
            <a:ext cx="2438280" cy="1893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C:\Documents and Settings\asus\My Documents\عرض\صور4\EROAD178.WMF"/>
          <p:cNvPicPr/>
          <p:nvPr/>
        </p:nvPicPr>
        <p:blipFill>
          <a:blip r:embed="rId2"/>
          <a:stretch/>
        </p:blipFill>
        <p:spPr>
          <a:xfrm>
            <a:off x="762120" y="3886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C:\Documents and Settings\asus\My Documents\عرض\صور4\SGNRD022.WMF"/>
          <p:cNvPicPr/>
          <p:nvPr/>
        </p:nvPicPr>
        <p:blipFill>
          <a:blip r:embed="rId3"/>
          <a:stretch/>
        </p:blipFill>
        <p:spPr>
          <a:xfrm>
            <a:off x="6858000" y="3956040"/>
            <a:ext cx="13096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قتنص  المواقف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5" descr="C:\Documents and Settings\asus\My Documents\عرض\صور4\ICONN103.WMF"/>
          <p:cNvPicPr/>
          <p:nvPr/>
        </p:nvPicPr>
        <p:blipFill>
          <a:blip r:embed="rId1"/>
          <a:stretch/>
        </p:blipFill>
        <p:spPr>
          <a:xfrm>
            <a:off x="60958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E:\CLIPART\PEOPLE\HANDS\HAND141.WMF"/>
          <p:cNvPicPr/>
          <p:nvPr/>
        </p:nvPicPr>
        <p:blipFill>
          <a:blip r:embed="rId2"/>
          <a:stretch/>
        </p:blipFill>
        <p:spPr>
          <a:xfrm>
            <a:off x="914400" y="1600200"/>
            <a:ext cx="4191120" cy="4029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 rot="20706600">
            <a:off x="1914120" y="2358720"/>
            <a:ext cx="15238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هم موقفين في الحياة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152280" y="0"/>
            <a:ext cx="86108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شمعة  المضيئة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295280" y="19051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صة ذو المسدس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جنب الانتقاد (انتقاد كاد يكلف  الحياة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قصر الطرق لكسب العداو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9" name="Rectangle 6" descr=""/>
          <p:cNvPicPr/>
          <p:nvPr/>
        </p:nvPicPr>
        <p:blipFill>
          <a:blip r:embed="rId1"/>
          <a:stretch/>
        </p:blipFill>
        <p:spPr>
          <a:xfrm>
            <a:off x="2359080" y="4840200"/>
            <a:ext cx="5346720" cy="82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asus\My Documents\My Pictures\d8207cba96.gif"/>
          <p:cNvPicPr/>
          <p:nvPr/>
        </p:nvPicPr>
        <p:blipFill>
          <a:blip r:embed="rId2"/>
          <a:stretch/>
        </p:blipFill>
        <p:spPr>
          <a:xfrm>
            <a:off x="763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Documents and Settings\asus\My Documents\My Pictures\d8207cba96.gif"/>
          <p:cNvPicPr/>
          <p:nvPr/>
        </p:nvPicPr>
        <p:blipFill>
          <a:blip r:embed="rId3"/>
          <a:stretch/>
        </p:blipFill>
        <p:spPr>
          <a:xfrm>
            <a:off x="67057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E:\CLIPART\ANIMALS\INSECTS\INSEC053.WMF"/>
          <p:cNvPicPr/>
          <p:nvPr/>
        </p:nvPicPr>
        <p:blipFill>
          <a:blip r:embed="rId4"/>
          <a:stretch/>
        </p:blipFill>
        <p:spPr>
          <a:xfrm>
            <a:off x="838080" y="5172120"/>
            <a:ext cx="1629000" cy="1305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E:\CLIPART\ANIMALS\CARTANIM\CINSE022.WMF"/>
          <p:cNvPicPr/>
          <p:nvPr/>
        </p:nvPicPr>
        <p:blipFill>
          <a:blip r:embed="rId5"/>
          <a:stretch/>
        </p:blipFill>
        <p:spPr>
          <a:xfrm>
            <a:off x="6553080" y="5791320"/>
            <a:ext cx="863640" cy="67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95480" y="1828800"/>
            <a:ext cx="56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 تشعر أنك ناجح في كسب الآخري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ستطيع الخروج  من المواقف المحرجة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حدث فينصت لك الآخرو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حس أن الناس يفرحون  بوجود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عامل مع الكل بحسب حا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وقعت لك مشاكل بسبب تعامل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أعجبك تعامل شخص وحاكيت فع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رأيت شخصا محبوبا وتمنيت أن تُحب مث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Documents and Settings\asus\My Documents\عرض\صور4\GOVT098.WMF"/>
          <p:cNvPicPr/>
          <p:nvPr/>
        </p:nvPicPr>
        <p:blipFill>
          <a:blip r:embed="rId1"/>
          <a:stretch/>
        </p:blipFill>
        <p:spPr>
          <a:xfrm>
            <a:off x="457200" y="3809880"/>
            <a:ext cx="2666880" cy="2551320"/>
          </a:xfrm>
          <a:prstGeom prst="rect">
            <a:avLst/>
          </a:prstGeom>
          <a:ln w="0">
            <a:noFill/>
          </a:ln>
        </p:spPr>
      </p:pic>
      <p:sp>
        <p:nvSpPr>
          <p:cNvPr id="369" name="Right Triangle 6"/>
          <p:cNvSpPr/>
          <p:nvPr/>
        </p:nvSpPr>
        <p:spPr>
          <a:xfrm rot="5400000">
            <a:off x="1866960" y="-1866960"/>
            <a:ext cx="3581280" cy="7315200"/>
          </a:xfrm>
          <a:prstGeom prst="rtTriangle">
            <a:avLst/>
          </a:prstGeom>
          <a:solidFill>
            <a:srgbClr val="fe9650"/>
          </a:solidFill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cs typeface="K Elham"/>
              </a:rPr>
              <a:t>حقق  أمانيك  مع.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دورة الذكاء الاجتماع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0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76720" y="350640"/>
            <a:ext cx="2209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cs typeface="K Elham"/>
              </a:rPr>
              <a:t>فن</a:t>
            </a:r>
            <a:br>
              <a:rPr sz="4900"/>
            </a:b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النقد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692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قواعد النقد البنا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حسن ال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داهم النواي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متعاطف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كث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نقد بين  القبول والتقب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611c"/>
                </a:solidFill>
                <a:latin typeface="Century Schoolbook"/>
                <a:cs typeface="ACS  Zomorrod Extra Bold"/>
              </a:rPr>
              <a:t>استراتيجية  الفطير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575f6d"/>
                </a:solidFill>
                <a:latin typeface="Century Schoolbook"/>
                <a:cs typeface="Andalus"/>
              </a:rPr>
              <a:t>ثناء_الملاحظة_شكر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قم  بكتابة  رسالة تنصح  فيها زميلا  مقصرا في صلاة الجما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228600" y="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537480" y="590400"/>
            <a:ext cx="1276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5f6d"/>
                </a:solidFill>
                <a:latin typeface="Verdana"/>
                <a:cs typeface="Andalus"/>
              </a:rPr>
              <a:t>نشا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85840" y="228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فن النقد  اتقن  فن............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:\Documents and Settings\asus\My Documents\عرض\صور4\4.JPG"/>
          <p:cNvPicPr/>
          <p:nvPr/>
        </p:nvPicPr>
        <p:blipFill>
          <a:blip r:embed="rId1"/>
          <a:stretch/>
        </p:blipFill>
        <p:spPr>
          <a:xfrm rot="18546600">
            <a:off x="1947600" y="569160"/>
            <a:ext cx="5085000" cy="6777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 rot="19577400">
            <a:off x="2031840" y="1374840"/>
            <a:ext cx="228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كيف تتعامل مع المعروف عندما تقدمه او يقدم لك؟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99840" y="2057400"/>
            <a:ext cx="6095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من الفائز؟</a:t>
            </a:r>
            <a:endParaRPr b="0" lang="en-US" sz="10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u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</a:rPr>
              <a:t>انتصار  بطعم  الهزيم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قاعدة الأجمل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 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4" descr="C:\Documents and Settings\asus\My Documents\عرض\صور4\DSGNC041.WMF"/>
          <p:cNvPicPr/>
          <p:nvPr/>
        </p:nvPicPr>
        <p:blipFill>
          <a:blip r:embed="rId1"/>
          <a:stretch/>
        </p:blipFill>
        <p:spPr>
          <a:xfrm>
            <a:off x="2057400" y="2286000"/>
            <a:ext cx="359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نازعت مع  أحد  إخوانك على  موضوع إحضار اختك من الجام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اهي  الحلول الممكنة وماهو الحل الأمثل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457200" y="152280"/>
            <a:ext cx="2819520" cy="1460520"/>
            <a:chOff x="457200" y="152280"/>
            <a:chExt cx="2819520" cy="1460520"/>
          </a:xfrm>
        </p:grpSpPr>
        <p:pic>
          <p:nvPicPr>
            <p:cNvPr id="490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457200" y="304560"/>
              <a:ext cx="281952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2"/>
            <p:cNvSpPr/>
            <p:nvPr/>
          </p:nvSpPr>
          <p:spPr>
            <a:xfrm>
              <a:off x="766800" y="152280"/>
              <a:ext cx="1897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2"/>
          <p:cNvSpPr/>
          <p:nvPr/>
        </p:nvSpPr>
        <p:spPr>
          <a:xfrm>
            <a:off x="1295280" y="1905120"/>
            <a:ext cx="523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e8637"/>
                </a:solidFill>
                <a:latin typeface="Verdana"/>
                <a:cs typeface="K Elham"/>
              </a:rPr>
              <a:t>تم بحمد الله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2590920" y="5867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  <a:cs typeface="AL-Mohanad Bold"/>
              </a:rPr>
              <a:t>د. خالد بن صالح المني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2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3581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أن  نبدأ 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19520" y="18288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 ترضى بأقل من عشر فوائد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وعاهد الله  بنية صادقة على التطبي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2819160"/>
            <a:ext cx="4876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1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من النجاح الوظيفي  يرجع للذكاء المنطق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8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يرجع للذكاء العاطف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Rectangle 5" descr=""/>
          <p:cNvPicPr/>
          <p:nvPr/>
        </p:nvPicPr>
        <p:blipFill>
          <a:blip r:embed="rId1"/>
          <a:stretch/>
        </p:blipFill>
        <p:spPr>
          <a:xfrm>
            <a:off x="291960" y="42840"/>
            <a:ext cx="4627800" cy="3267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sus\My Documents\عرض\صور4\23.JPG"/>
          <p:cNvPicPr/>
          <p:nvPr/>
        </p:nvPicPr>
        <p:blipFill>
          <a:blip r:embed="rId2"/>
          <a:stretch/>
        </p:blipFill>
        <p:spPr>
          <a:xfrm>
            <a:off x="5257800" y="380880"/>
            <a:ext cx="3152880" cy="243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c8d6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42670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ــــــاســــبـــــــك من حسن الخل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9320" y="34286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379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1" name="Picture 5" descr="C:\Documents and Settings\asus\My Documents\عرض\صور4\3.JPG"/>
          <p:cNvPicPr/>
          <p:nvPr/>
        </p:nvPicPr>
        <p:blipFill>
          <a:blip r:embed="rId2"/>
          <a:stretch/>
        </p:blipFill>
        <p:spPr>
          <a:xfrm>
            <a:off x="4419720" y="0"/>
            <a:ext cx="213336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57800" y="1188720"/>
            <a:ext cx="2743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اسبك</a:t>
            </a:r>
            <a:endParaRPr b="0" lang="en-US" sz="6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6000" y="3048120"/>
            <a:ext cx="4341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8637"/>
                </a:solidFill>
                <a:latin typeface="Century Schoolbook"/>
                <a:cs typeface="AL-Mohanad Bold"/>
              </a:rPr>
              <a:t>لتفـعيل مرؤوسي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cc"/>
                </a:solidFill>
                <a:latin typeface="Century Schoolbook"/>
                <a:cs typeface="AL-Mohanad Bold"/>
              </a:rPr>
              <a:t>لأسرة سعيدة وتربية حميد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أزواج و الزوج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9966"/>
                </a:solidFill>
                <a:latin typeface="Century Schoolbook"/>
                <a:cs typeface="AL-Mohanad Bold"/>
              </a:rPr>
              <a:t>الدعــــا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a7007"/>
                </a:solidFill>
                <a:latin typeface="Century Schoolbook"/>
                <a:cs typeface="AL-Mohanad Bold"/>
              </a:rPr>
              <a:t>والمربي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67080" y="3504960"/>
            <a:ext cx="3657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Century Schoolbook"/>
                <a:cs typeface="AL-Mohanad Bold"/>
              </a:rPr>
              <a:t>التعامل مع الناس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598d9"/>
                </a:solidFill>
                <a:latin typeface="Century Schoolbook"/>
                <a:cs typeface="AL-Mohanad Bold"/>
              </a:rPr>
              <a:t>نحن في حـاجـتـ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AL-Mohanad Bold"/>
              </a:rPr>
              <a:t>وهم في حاج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668c4"/>
                </a:solidFill>
                <a:latin typeface="Century Schoolbook"/>
                <a:cs typeface="AL-Mohanad Bold"/>
              </a:rPr>
              <a:t>لـلـدنـيـ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66"/>
                </a:solidFill>
                <a:latin typeface="Al-Kharashi 45"/>
                <a:cs typeface="AL-Mohanad Bold"/>
              </a:rPr>
              <a:t>وللآخـــــ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C:\Documents and Settings\asus\My Documents\عرض\صور\GOVT131.WMF"/>
          <p:cNvPicPr/>
          <p:nvPr/>
        </p:nvPicPr>
        <p:blipFill>
          <a:blip r:embed="rId1"/>
          <a:stretch/>
        </p:blipFill>
        <p:spPr>
          <a:xfrm>
            <a:off x="1828800" y="685800"/>
            <a:ext cx="259092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C:\Documents and Settings\asus\My Documents\عرض\صور4\8.JPG"/>
          <p:cNvPicPr/>
          <p:nvPr/>
        </p:nvPicPr>
        <p:blipFill>
          <a:blip r:embed="rId1"/>
          <a:stretch/>
        </p:blipFill>
        <p:spPr>
          <a:xfrm>
            <a:off x="6477120" y="-2590920"/>
            <a:ext cx="2185920" cy="2590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 rot="684600">
            <a:off x="5743440" y="1133280"/>
            <a:ext cx="159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خطو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أولى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Rectangle 6" descr=""/>
          <p:cNvPicPr/>
          <p:nvPr/>
        </p:nvPicPr>
        <p:blipFill>
          <a:blip r:embed="rId2"/>
          <a:stretch/>
        </p:blipFill>
        <p:spPr>
          <a:xfrm>
            <a:off x="-66600" y="16700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08611 0.4 E">
                                      <p:cBhvr>
                                        <p:cTn id="30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1069920"/>
            <a:ext cx="4572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عمق رغبة إنسانية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هو الشيء الذي  يجعل  الآخرين  سعداء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عرف  اول ما تطالب به  الدول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غنى رجلين في العالم  يقدمان  لك  وصفة  سحرية للتعام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رقم قياسي للزواج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:\only me\wafa3\no body\Things\brxbxp28323.jpg"/>
          <p:cNvPicPr/>
          <p:nvPr/>
        </p:nvPicPr>
        <p:blipFill>
          <a:blip r:embed="rId1"/>
          <a:stretch/>
        </p:blipFill>
        <p:spPr>
          <a:xfrm>
            <a:off x="609480" y="1155600"/>
            <a:ext cx="3407040" cy="4178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 rot="21363000">
            <a:off x="1117080" y="2248920"/>
            <a:ext cx="2438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س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خطي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4:18Z</dcterms:created>
  <dc:creator>user</dc:creator>
  <dc:description/>
  <dc:language>en-US</dc:language>
  <cp:lastModifiedBy>www.arabswell.com</cp:lastModifiedBy>
  <dcterms:modified xsi:type="dcterms:W3CDTF">2008-03-03T13:10:54Z</dcterms:modified>
  <cp:revision>29</cp:revision>
  <dc:subject/>
  <dc:title>فن  التعامل  وقوة التأثير  </dc:title>
</cp:coreProperties>
</file>